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CBE-8F1A-4BF6-9B24-17B30A88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366-11F6-41F0-82B2-8D103442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D6C-05ED-485E-86BE-3A93E2B2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B5D-D7EF-4672-BA0E-557B1609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4B0-72DB-4AF1-971C-0F24965D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9A92-357C-4B0F-9E90-DC7A644F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F1E-9125-4CDD-8B72-967D9EE7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9F1-643C-4A93-A096-15392627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FFA-0E1F-483D-A748-AA6683A6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9F8-0B2F-4A81-8CC0-ABB567B5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644-E1AF-428C-9480-B487D38D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696-CCBB-4F24-B8DE-71CA1423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FFBA-4837-45F3-A311-B1436B329C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bjective: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o describe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roperties of solid shape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ch as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erpendicular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arallel lines, faces and edge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hree-dimensional shape which has 6 square faces all the same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90720" y="2438280"/>
            <a:ext cx="3047760" cy="3048120"/>
          </a:xfrm>
          <a:prstGeom prst="cube">
            <a:avLst>
              <a:gd name="adj" fmla="val 25000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5029200" y="4191120"/>
            <a:ext cx="358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faces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edges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952880" y="5410080"/>
            <a:ext cx="358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faces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edges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uboi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hree-dimensional shape which has 6 rectangular fa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914400" y="1981080"/>
            <a:ext cx="2438280" cy="43434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029200" y="4191120"/>
            <a:ext cx="358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faces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edges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4952880" y="5410080"/>
            <a:ext cx="358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faces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edges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Sphe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perfectly round three-dimensional shape, like a ball. It has only one curved 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724280" y="52578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erpendicular faces or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4724280" y="48006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arallel faces or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6" descr="MCED00214_0000[1]"/>
          <p:cNvPicPr/>
          <p:nvPr/>
        </p:nvPicPr>
        <p:blipFill>
          <a:blip r:embed="rId1"/>
          <a:stretch/>
        </p:blipFill>
        <p:spPr>
          <a:xfrm>
            <a:off x="1042920" y="227664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Hemisphe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hree-dimensional shape that is half a sp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35"/>
          <p:cNvSpPr/>
          <p:nvPr/>
        </p:nvSpPr>
        <p:spPr>
          <a:xfrm>
            <a:off x="4724280" y="48006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arallel faces or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036"/>
          <p:cNvSpPr/>
          <p:nvPr/>
        </p:nvSpPr>
        <p:spPr>
          <a:xfrm>
            <a:off x="4724280" y="52578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erpendicular faces or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040"/>
          <p:cNvGrpSpPr/>
          <p:nvPr/>
        </p:nvGrpSpPr>
        <p:grpSpPr>
          <a:xfrm>
            <a:off x="684360" y="2997360"/>
            <a:ext cx="3671640" cy="1726920"/>
            <a:chOff x="684360" y="2997360"/>
            <a:chExt cx="3671640" cy="1726920"/>
          </a:xfrm>
        </p:grpSpPr>
        <p:pic>
          <p:nvPicPr>
            <p:cNvPr id="141" name="Picture 1037" descr="MCSL00222_0000[1]"/>
            <p:cNvPicPr/>
            <p:nvPr/>
          </p:nvPicPr>
          <p:blipFill>
            <a:blip r:embed="rId1"/>
            <a:srcRect l="0" t="0" r="18601" b="61220"/>
            <a:stretch/>
          </p:blipFill>
          <p:spPr>
            <a:xfrm>
              <a:off x="684360" y="2997360"/>
              <a:ext cx="36716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Line 1039"/>
            <p:cNvSpPr/>
            <p:nvPr/>
          </p:nvSpPr>
          <p:spPr>
            <a:xfrm>
              <a:off x="755640" y="4724280"/>
              <a:ext cx="3529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hree dimensional shape with a circle at its base and a pointed vert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724280" y="52578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erpendicular faces or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4724280" y="48006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arallel faces or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9" descr="MCED00213_0000[1]"/>
          <p:cNvPicPr/>
          <p:nvPr/>
        </p:nvPicPr>
        <p:blipFill>
          <a:blip r:embed="rId1"/>
          <a:stretch/>
        </p:blipFill>
        <p:spPr>
          <a:xfrm>
            <a:off x="755640" y="1700280"/>
            <a:ext cx="3335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hree-dimensional shape with circular ends of equal s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219320" y="1676520"/>
            <a:ext cx="2361960" cy="449568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029200" y="4191120"/>
            <a:ext cx="358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faces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edges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952880" y="5410080"/>
            <a:ext cx="358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faces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edges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Pyrami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hree-dimensional shape which has a polygon for its base and triangular faces which meet at one verte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4724280" y="4572000"/>
            <a:ext cx="396252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.g. Triangular pyra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quare  pyra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exagonal pyra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entagonal pyram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457200" y="2362320"/>
            <a:ext cx="3885840" cy="2990520"/>
            <a:chOff x="457200" y="2362320"/>
            <a:chExt cx="3885840" cy="2990520"/>
          </a:xfrm>
        </p:grpSpPr>
        <p:graphicFrame>
          <p:nvGraphicFramePr>
            <p:cNvPr id="157" name="Object 2048"/>
            <p:cNvGraphicFramePr/>
            <p:nvPr/>
          </p:nvGraphicFramePr>
          <p:xfrm>
            <a:off x="457200" y="2362320"/>
            <a:ext cx="3885840" cy="2990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Object 204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2362320"/>
                      <a:ext cx="3885840" cy="299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2049"/>
            <p:cNvGraphicFramePr/>
            <p:nvPr/>
          </p:nvGraphicFramePr>
          <p:xfrm>
            <a:off x="1924920" y="2566440"/>
            <a:ext cx="895680" cy="1150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Object 204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24920" y="2566440"/>
                      <a:ext cx="895680" cy="11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Square base pyrami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Object 0"/>
          <p:cNvGraphicFramePr/>
          <p:nvPr/>
        </p:nvGraphicFramePr>
        <p:xfrm>
          <a:off x="990720" y="2666880"/>
          <a:ext cx="3000240" cy="23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3000240" cy="23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13"/>
          <p:cNvSpPr/>
          <p:nvPr/>
        </p:nvSpPr>
        <p:spPr>
          <a:xfrm>
            <a:off x="4800600" y="3886200"/>
            <a:ext cx="3581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faces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edges perpendi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4724280" y="2666880"/>
            <a:ext cx="3581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faces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me edges 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Pris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hree dimensional shape that has the same cross-section all along its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7"/>
          <p:cNvGrpSpPr/>
          <p:nvPr/>
        </p:nvGrpSpPr>
        <p:grpSpPr>
          <a:xfrm>
            <a:off x="838080" y="1828800"/>
            <a:ext cx="3429000" cy="4114800"/>
            <a:chOff x="838080" y="1828800"/>
            <a:chExt cx="3429000" cy="4114800"/>
          </a:xfrm>
        </p:grpSpPr>
        <p:sp>
          <p:nvSpPr>
            <p:cNvPr id="169" name="AutoShape 5"/>
            <p:cNvSpPr/>
            <p:nvPr/>
          </p:nvSpPr>
          <p:spPr>
            <a:xfrm>
              <a:off x="838080" y="1828800"/>
              <a:ext cx="1524240" cy="2819520"/>
            </a:xfrm>
            <a:prstGeom prst="can">
              <a:avLst>
                <a:gd name="adj" fmla="val 25000"/>
              </a:avLst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2666880" y="2971800"/>
              <a:ext cx="1600200" cy="29718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Written 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8"/>
          <p:cNvSpPr/>
          <p:nvPr/>
        </p:nvSpPr>
        <p:spPr>
          <a:xfrm>
            <a:off x="2590920" y="2209680"/>
            <a:ext cx="29718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b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9"/>
          <p:cNvSpPr/>
          <p:nvPr/>
        </p:nvSpPr>
        <p:spPr>
          <a:xfrm>
            <a:off x="5562720" y="4267080"/>
            <a:ext cx="281916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quare based-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misp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380880" y="24382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ME PERPENDICULAR  F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304920" y="47242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 PERPENDICULAR F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2971800" y="167652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ME PARALLEL  F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5867280" y="167652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 PARALLEL F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7"/>
          <p:cNvSpPr/>
          <p:nvPr/>
        </p:nvSpPr>
        <p:spPr>
          <a:xfrm>
            <a:off x="2590920" y="4267080"/>
            <a:ext cx="297180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8"/>
          <p:cNvSpPr/>
          <p:nvPr/>
        </p:nvSpPr>
        <p:spPr>
          <a:xfrm>
            <a:off x="5562720" y="2209680"/>
            <a:ext cx="281916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T 1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ID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Written tas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590920" y="2209680"/>
            <a:ext cx="29718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b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quare-based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5562720" y="4267080"/>
            <a:ext cx="281916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emi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80880" y="24382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ME PERPENDICULAR ED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304920" y="47242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 PERPENDICULAR ED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971800" y="167652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ME PARALLEL ED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5867280" y="1676520"/>
            <a:ext cx="24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NO PARALLEL ED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590920" y="4267080"/>
            <a:ext cx="2971800" cy="1905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5562720" y="2209680"/>
            <a:ext cx="281916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ART  2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LANE SHAP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6840" y="1752480"/>
            <a:ext cx="4343400" cy="4572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-dimensional shapes that have sides made from straight l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    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xag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990720" y="2209680"/>
            <a:ext cx="1371600" cy="15242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2590920" y="1981080"/>
            <a:ext cx="838080" cy="2438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990720" y="3809880"/>
            <a:ext cx="2666880" cy="1828800"/>
          </a:xfrm>
          <a:prstGeom prst="rtTriangl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8"/>
          <p:cNvSpPr/>
          <p:nvPr/>
        </p:nvSpPr>
        <p:spPr>
          <a:xfrm>
            <a:off x="3581280" y="2971800"/>
            <a:ext cx="1143000" cy="2133720"/>
          </a:xfrm>
          <a:prstGeom prst="parallelogram">
            <a:avLst>
              <a:gd name="adj" fmla="val 2500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Quadrilatera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y two-dimensional shapes with four straight s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hom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pez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90720" y="2362320"/>
            <a:ext cx="1371600" cy="1218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838080" y="3962520"/>
            <a:ext cx="990720" cy="1523880"/>
          </a:xfrm>
          <a:prstGeom prst="parallelogram">
            <a:avLst>
              <a:gd name="adj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2743200" y="3886200"/>
            <a:ext cx="1295280" cy="1828800"/>
          </a:xfrm>
          <a:prstGeom prst="pi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2895480" y="1981080"/>
            <a:ext cx="1295640" cy="1752840"/>
          </a:xfrm>
          <a:prstGeom prst="diamond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Rectang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our sided two-dimensional shape with two pairs of parallel sides that meet at right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33520" y="2819520"/>
            <a:ext cx="3962160" cy="228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Ki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wo-dimensional shape with two shorter sides of equal length and two longer sides of equal length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 flipH="1" flipV="1">
            <a:off x="1600200" y="2895120"/>
            <a:ext cx="175248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9"/>
          <p:cNvSpPr/>
          <p:nvPr/>
        </p:nvSpPr>
        <p:spPr>
          <a:xfrm flipV="1">
            <a:off x="1600200" y="1676520"/>
            <a:ext cx="106668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2666880" y="1676520"/>
            <a:ext cx="152424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1"/>
          <p:cNvSpPr/>
          <p:nvPr/>
        </p:nvSpPr>
        <p:spPr>
          <a:xfrm flipH="1">
            <a:off x="3352320" y="2666880"/>
            <a:ext cx="83844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Rhomb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wo-dimensional four sided shape with opposite sides that are parallel and all the sides are the same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AutoShape 5"/>
          <p:cNvSpPr/>
          <p:nvPr/>
        </p:nvSpPr>
        <p:spPr>
          <a:xfrm>
            <a:off x="228600" y="2438280"/>
            <a:ext cx="4419720" cy="3048120"/>
          </a:xfrm>
          <a:prstGeom prst="parallelogram">
            <a:avLst>
              <a:gd name="adj" fmla="val 362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Trapezi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wo-dimensional shape with four sides.One pair of sides is parallel with one side longer than the 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1029"/>
          <p:cNvSpPr/>
          <p:nvPr/>
        </p:nvSpPr>
        <p:spPr>
          <a:xfrm>
            <a:off x="990720" y="1981080"/>
            <a:ext cx="3276360" cy="213372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1030"/>
          <p:cNvSpPr/>
          <p:nvPr/>
        </p:nvSpPr>
        <p:spPr>
          <a:xfrm>
            <a:off x="304920" y="4800600"/>
            <a:ext cx="4419360" cy="76212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Pentag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wo-dimensional shape with five straight sides and five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304920" y="2819520"/>
            <a:ext cx="2438280" cy="3657600"/>
          </a:xfrm>
          <a:prstGeom prst="pentagon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2286000" y="1676520"/>
            <a:ext cx="1981080" cy="1828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Hexag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wo-dimensional shape with 6 straight sides and 6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04920" y="1752480"/>
            <a:ext cx="4419360" cy="2514600"/>
          </a:xfrm>
          <a:prstGeom prst="hexagon">
            <a:avLst>
              <a:gd name="adj" fmla="val 43937"/>
              <a:gd name="vf" fmla="val 115470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1600200" y="4648320"/>
            <a:ext cx="1676520" cy="1600200"/>
          </a:xfrm>
          <a:prstGeom prst="hexagon">
            <a:avLst>
              <a:gd name="adj" fmla="val 26192"/>
              <a:gd name="vf" fmla="val 1154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wo-dimensional Shapes (2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shapes are flat and can only be drawn on pa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have two dimensions – length and wid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are sometimes called plane shap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11"/>
          <p:cNvGrpSpPr/>
          <p:nvPr/>
        </p:nvGrpSpPr>
        <p:grpSpPr>
          <a:xfrm>
            <a:off x="762120" y="2438280"/>
            <a:ext cx="3047760" cy="3733920"/>
            <a:chOff x="762120" y="2438280"/>
            <a:chExt cx="3047760" cy="3733920"/>
          </a:xfrm>
        </p:grpSpPr>
        <p:sp>
          <p:nvSpPr>
            <p:cNvPr id="46" name="AutoShape 5"/>
            <p:cNvSpPr/>
            <p:nvPr/>
          </p:nvSpPr>
          <p:spPr>
            <a:xfrm>
              <a:off x="990720" y="2666880"/>
              <a:ext cx="1066680" cy="990720"/>
            </a:xfrm>
            <a:prstGeom prst="octagon">
              <a:avLst>
                <a:gd name="adj" fmla="val 29287"/>
              </a:avLst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6"/>
            <p:cNvSpPr/>
            <p:nvPr/>
          </p:nvSpPr>
          <p:spPr>
            <a:xfrm>
              <a:off x="914400" y="4038480"/>
              <a:ext cx="990720" cy="990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utoShape 7"/>
            <p:cNvSpPr/>
            <p:nvPr/>
          </p:nvSpPr>
          <p:spPr>
            <a:xfrm>
              <a:off x="2133720" y="3962520"/>
              <a:ext cx="121896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>
              <a:off x="2743200" y="2438280"/>
              <a:ext cx="990720" cy="1219320"/>
            </a:xfrm>
            <a:prstGeom prst="plus">
              <a:avLst>
                <a:gd name="adj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9"/>
            <p:cNvSpPr/>
            <p:nvPr/>
          </p:nvSpPr>
          <p:spPr>
            <a:xfrm>
              <a:off x="762120" y="5334120"/>
              <a:ext cx="1295280" cy="83808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10"/>
            <p:cNvSpPr/>
            <p:nvPr/>
          </p:nvSpPr>
          <p:spPr>
            <a:xfrm>
              <a:off x="2362320" y="5257800"/>
              <a:ext cx="1447560" cy="914400"/>
            </a:xfrm>
            <a:prstGeom prst="parallelogram">
              <a:avLst>
                <a:gd name="adj" fmla="val 39577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Octag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two-dimensional shape with 8 straight sides and 8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85800" y="2286000"/>
            <a:ext cx="3429000" cy="914400"/>
          </a:xfrm>
          <a:prstGeom prst="octagon">
            <a:avLst>
              <a:gd name="adj" fmla="val 29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762120" y="3429000"/>
            <a:ext cx="2971800" cy="2971800"/>
          </a:xfrm>
          <a:prstGeom prst="octagon">
            <a:avLst>
              <a:gd name="adj" fmla="val 2928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do we call a shape with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7 Sid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9 Sides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0 Sid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218960" y="4495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round flat two-dimensional sha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5"/>
          <p:cNvSpPr/>
          <p:nvPr/>
        </p:nvSpPr>
        <p:spPr>
          <a:xfrm>
            <a:off x="914400" y="2209680"/>
            <a:ext cx="3505320" cy="3505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dimensional shape with 4 sides of the same length and 4 90°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990720" y="2438280"/>
            <a:ext cx="3276360" cy="31244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Triang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-dimensional shape with three straight sides and three ang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n you name 4 different kin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609480" y="2286000"/>
            <a:ext cx="3429000" cy="37339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ree-dimensional Shapes (3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shapes are solid or holl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have three dimensions – length, width and he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914400" y="1752480"/>
            <a:ext cx="2895480" cy="4648320"/>
            <a:chOff x="914400" y="1752480"/>
            <a:chExt cx="2895480" cy="4648320"/>
          </a:xfrm>
        </p:grpSpPr>
        <p:sp>
          <p:nvSpPr>
            <p:cNvPr id="55" name="Rectangle 5"/>
            <p:cNvSpPr/>
            <p:nvPr/>
          </p:nvSpPr>
          <p:spPr>
            <a:xfrm>
              <a:off x="914400" y="3733920"/>
              <a:ext cx="1066680" cy="9903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AutoShape 6"/>
            <p:cNvSpPr/>
            <p:nvPr/>
          </p:nvSpPr>
          <p:spPr>
            <a:xfrm>
              <a:off x="1066680" y="5334120"/>
              <a:ext cx="990720" cy="106668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Oval 7"/>
            <p:cNvSpPr/>
            <p:nvPr/>
          </p:nvSpPr>
          <p:spPr>
            <a:xfrm>
              <a:off x="2286000" y="5029200"/>
              <a:ext cx="1219320" cy="1143000"/>
            </a:xfrm>
            <a:prstGeom prst="ellipse">
              <a:avLst/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8"/>
            <p:cNvSpPr/>
            <p:nvPr/>
          </p:nvSpPr>
          <p:spPr>
            <a:xfrm>
              <a:off x="2514600" y="3581280"/>
              <a:ext cx="1295280" cy="1067040"/>
            </a:xfrm>
            <a:prstGeom prst="pi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9"/>
            <p:cNvSpPr/>
            <p:nvPr/>
          </p:nvSpPr>
          <p:spPr>
            <a:xfrm>
              <a:off x="990720" y="1905120"/>
              <a:ext cx="1066680" cy="11430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10"/>
            <p:cNvSpPr/>
            <p:nvPr/>
          </p:nvSpPr>
          <p:spPr>
            <a:xfrm>
              <a:off x="2514600" y="1752480"/>
              <a:ext cx="1143000" cy="13716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Fac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rt of a shape that is flat.(Or curv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 A cube has 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"/>
          <p:cNvSpPr/>
          <p:nvPr/>
        </p:nvSpPr>
        <p:spPr>
          <a:xfrm>
            <a:off x="1143000" y="2514600"/>
            <a:ext cx="2666880" cy="297180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8"/>
          <p:cNvSpPr/>
          <p:nvPr/>
        </p:nvSpPr>
        <p:spPr>
          <a:xfrm>
            <a:off x="2743200" y="2209680"/>
            <a:ext cx="1600200" cy="3429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Ed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line where two faces m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.g. A cube has 12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1219320" y="3048120"/>
            <a:ext cx="2819160" cy="25146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6"/>
          <p:cNvSpPr/>
          <p:nvPr/>
        </p:nvSpPr>
        <p:spPr>
          <a:xfrm>
            <a:off x="914400" y="3429000"/>
            <a:ext cx="26668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Vertex (Vertic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lace where three or more edges m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pyramid has 4 of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029"/>
          <p:cNvSpPr/>
          <p:nvPr/>
        </p:nvSpPr>
        <p:spPr>
          <a:xfrm>
            <a:off x="1523880" y="1752480"/>
            <a:ext cx="2895840" cy="2971800"/>
          </a:xfrm>
          <a:prstGeom prst="triangle">
            <a:avLst>
              <a:gd name="adj" fmla="val 50000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038"/>
          <p:cNvGrpSpPr/>
          <p:nvPr/>
        </p:nvGrpSpPr>
        <p:grpSpPr>
          <a:xfrm>
            <a:off x="228600" y="1600200"/>
            <a:ext cx="4648320" cy="4343400"/>
            <a:chOff x="228600" y="1600200"/>
            <a:chExt cx="4648320" cy="4343400"/>
          </a:xfrm>
        </p:grpSpPr>
        <p:sp>
          <p:nvSpPr>
            <p:cNvPr id="73" name="Oval 1030"/>
            <p:cNvSpPr/>
            <p:nvPr/>
          </p:nvSpPr>
          <p:spPr>
            <a:xfrm>
              <a:off x="2514600" y="1600200"/>
              <a:ext cx="9144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031"/>
            <p:cNvSpPr/>
            <p:nvPr/>
          </p:nvSpPr>
          <p:spPr>
            <a:xfrm>
              <a:off x="3962520" y="4495680"/>
              <a:ext cx="9144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1032"/>
            <p:cNvSpPr/>
            <p:nvPr/>
          </p:nvSpPr>
          <p:spPr>
            <a:xfrm>
              <a:off x="1219320" y="4495680"/>
              <a:ext cx="914400" cy="4572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1037"/>
            <p:cNvSpPr/>
            <p:nvPr/>
          </p:nvSpPr>
          <p:spPr>
            <a:xfrm>
              <a:off x="228600" y="5562720"/>
              <a:ext cx="914400" cy="3808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se type of lines stay the same distance apart for  their whole length. They do not need to be straight or the same leng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15"/>
          <p:cNvGrpSpPr/>
          <p:nvPr/>
        </p:nvGrpSpPr>
        <p:grpSpPr>
          <a:xfrm>
            <a:off x="533520" y="1905120"/>
            <a:ext cx="3429000" cy="1295280"/>
            <a:chOff x="533520" y="1905120"/>
            <a:chExt cx="3429000" cy="1295280"/>
          </a:xfrm>
        </p:grpSpPr>
        <p:sp>
          <p:nvSpPr>
            <p:cNvPr id="80" name="Line 5"/>
            <p:cNvSpPr/>
            <p:nvPr/>
          </p:nvSpPr>
          <p:spPr>
            <a:xfrm>
              <a:off x="762120" y="19051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6"/>
            <p:cNvSpPr/>
            <p:nvPr/>
          </p:nvSpPr>
          <p:spPr>
            <a:xfrm>
              <a:off x="685800" y="213372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9"/>
            <p:cNvSpPr/>
            <p:nvPr/>
          </p:nvSpPr>
          <p:spPr>
            <a:xfrm>
              <a:off x="533520" y="2514600"/>
              <a:ext cx="2743200" cy="457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0"/>
            <p:cNvSpPr/>
            <p:nvPr/>
          </p:nvSpPr>
          <p:spPr>
            <a:xfrm>
              <a:off x="533520" y="2743200"/>
              <a:ext cx="2743200" cy="457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39"/>
          <p:cNvGrpSpPr/>
          <p:nvPr/>
        </p:nvGrpSpPr>
        <p:grpSpPr>
          <a:xfrm>
            <a:off x="453960" y="3733920"/>
            <a:ext cx="4498920" cy="2361960"/>
            <a:chOff x="453960" y="3733920"/>
            <a:chExt cx="4498920" cy="2361960"/>
          </a:xfrm>
        </p:grpSpPr>
        <p:grpSp>
          <p:nvGrpSpPr>
            <p:cNvPr id="85" name="Group 14"/>
            <p:cNvGrpSpPr/>
            <p:nvPr/>
          </p:nvGrpSpPr>
          <p:grpSpPr>
            <a:xfrm>
              <a:off x="457200" y="3733920"/>
              <a:ext cx="4495680" cy="2361960"/>
              <a:chOff x="457200" y="3733920"/>
              <a:chExt cx="4495680" cy="2361960"/>
            </a:xfrm>
          </p:grpSpPr>
          <p:sp>
            <p:nvSpPr>
              <p:cNvPr id="86" name="AutoShape 11"/>
              <p:cNvSpPr/>
              <p:nvPr/>
            </p:nvSpPr>
            <p:spPr>
              <a:xfrm>
                <a:off x="457200" y="3962520"/>
                <a:ext cx="762120" cy="2133360"/>
              </a:xfrm>
              <a:prstGeom prst="cube">
                <a:avLst>
                  <a:gd name="adj" fmla="val 25000"/>
                </a:avLst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AutoShape 12"/>
              <p:cNvSpPr/>
              <p:nvPr/>
            </p:nvSpPr>
            <p:spPr>
              <a:xfrm>
                <a:off x="1905120" y="3733920"/>
                <a:ext cx="1447560" cy="1371600"/>
              </a:xfrm>
              <a:prstGeom prst="pi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AutoShape 13"/>
              <p:cNvSpPr/>
              <p:nvPr/>
            </p:nvSpPr>
            <p:spPr>
              <a:xfrm>
                <a:off x="1905120" y="5410080"/>
                <a:ext cx="3047760" cy="685800"/>
              </a:xfrm>
              <a:prstGeom prst="parallelogram">
                <a:avLst>
                  <a:gd name="adj" fmla="val 111102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Line 18"/>
            <p:cNvSpPr/>
            <p:nvPr/>
          </p:nvSpPr>
          <p:spPr>
            <a:xfrm>
              <a:off x="3505320" y="54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9"/>
            <p:cNvSpPr/>
            <p:nvPr/>
          </p:nvSpPr>
          <p:spPr>
            <a:xfrm>
              <a:off x="3200400" y="6095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0"/>
            <p:cNvSpPr/>
            <p:nvPr/>
          </p:nvSpPr>
          <p:spPr>
            <a:xfrm>
              <a:off x="2514600" y="3733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21"/>
            <p:cNvSpPr/>
            <p:nvPr/>
          </p:nvSpPr>
          <p:spPr>
            <a:xfrm>
              <a:off x="2590920" y="5105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22"/>
            <p:cNvSpPr/>
            <p:nvPr/>
          </p:nvSpPr>
          <p:spPr>
            <a:xfrm>
              <a:off x="609480" y="60958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23"/>
            <p:cNvSpPr/>
            <p:nvPr/>
          </p:nvSpPr>
          <p:spPr>
            <a:xfrm>
              <a:off x="838080" y="39625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27"/>
            <p:cNvGrpSpPr/>
            <p:nvPr/>
          </p:nvGrpSpPr>
          <p:grpSpPr>
            <a:xfrm>
              <a:off x="453960" y="4952520"/>
              <a:ext cx="6480" cy="304920"/>
              <a:chOff x="453960" y="4952520"/>
              <a:chExt cx="6480" cy="304920"/>
            </a:xfrm>
          </p:grpSpPr>
          <p:sp>
            <p:nvSpPr>
              <p:cNvPr id="96" name="Line 28"/>
              <p:cNvSpPr/>
              <p:nvPr/>
            </p:nvSpPr>
            <p:spPr>
              <a:xfrm flipV="1">
                <a:off x="453960" y="5105160"/>
                <a:ext cx="3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29"/>
              <p:cNvSpPr/>
              <p:nvPr/>
            </p:nvSpPr>
            <p:spPr>
              <a:xfrm flipV="1">
                <a:off x="457200" y="4952520"/>
                <a:ext cx="32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30"/>
            <p:cNvGrpSpPr/>
            <p:nvPr/>
          </p:nvGrpSpPr>
          <p:grpSpPr>
            <a:xfrm>
              <a:off x="1216080" y="4952520"/>
              <a:ext cx="6480" cy="304920"/>
              <a:chOff x="1216080" y="4952520"/>
              <a:chExt cx="6480" cy="304920"/>
            </a:xfrm>
          </p:grpSpPr>
          <p:sp>
            <p:nvSpPr>
              <p:cNvPr id="99" name="Line 31"/>
              <p:cNvSpPr/>
              <p:nvPr/>
            </p:nvSpPr>
            <p:spPr>
              <a:xfrm flipV="1">
                <a:off x="1216080" y="5105160"/>
                <a:ext cx="324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32"/>
              <p:cNvSpPr/>
              <p:nvPr/>
            </p:nvSpPr>
            <p:spPr>
              <a:xfrm flipV="1">
                <a:off x="1219320" y="4952520"/>
                <a:ext cx="324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Group 34"/>
            <p:cNvGrpSpPr/>
            <p:nvPr/>
          </p:nvGrpSpPr>
          <p:grpSpPr>
            <a:xfrm>
              <a:off x="2269800" y="5483520"/>
              <a:ext cx="335880" cy="310680"/>
              <a:chOff x="2269800" y="5483520"/>
              <a:chExt cx="335880" cy="310680"/>
            </a:xfrm>
          </p:grpSpPr>
          <p:sp>
            <p:nvSpPr>
              <p:cNvPr id="102" name="Line 24"/>
              <p:cNvSpPr/>
              <p:nvPr/>
            </p:nvSpPr>
            <p:spPr>
              <a:xfrm flipV="1">
                <a:off x="2269800" y="5690520"/>
                <a:ext cx="111960" cy="10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 flipV="1">
                <a:off x="2437920" y="5587200"/>
                <a:ext cx="5580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33"/>
              <p:cNvSpPr/>
              <p:nvPr/>
            </p:nvSpPr>
            <p:spPr>
              <a:xfrm flipV="1">
                <a:off x="2549520" y="5483520"/>
                <a:ext cx="561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35"/>
            <p:cNvGrpSpPr/>
            <p:nvPr/>
          </p:nvGrpSpPr>
          <p:grpSpPr>
            <a:xfrm>
              <a:off x="4403520" y="5559840"/>
              <a:ext cx="335880" cy="310680"/>
              <a:chOff x="4403520" y="5559840"/>
              <a:chExt cx="335880" cy="310680"/>
            </a:xfrm>
          </p:grpSpPr>
          <p:sp>
            <p:nvSpPr>
              <p:cNvPr id="106" name="Line 36"/>
              <p:cNvSpPr/>
              <p:nvPr/>
            </p:nvSpPr>
            <p:spPr>
              <a:xfrm flipV="1">
                <a:off x="4403520" y="5766840"/>
                <a:ext cx="111960" cy="10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37"/>
              <p:cNvSpPr/>
              <p:nvPr/>
            </p:nvSpPr>
            <p:spPr>
              <a:xfrm flipV="1">
                <a:off x="4571640" y="5663520"/>
                <a:ext cx="5580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38"/>
              <p:cNvSpPr/>
              <p:nvPr/>
            </p:nvSpPr>
            <p:spPr>
              <a:xfrm flipV="1">
                <a:off x="4683240" y="5559840"/>
                <a:ext cx="561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6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Perpendicula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line that is drawn in a right angle to another lin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solid shapes edges could be at a right angle to one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ces could also be at right angles to one an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2"/>
          <p:cNvGrpSpPr/>
          <p:nvPr/>
        </p:nvGrpSpPr>
        <p:grpSpPr>
          <a:xfrm>
            <a:off x="990720" y="1600200"/>
            <a:ext cx="3657600" cy="2362320"/>
            <a:chOff x="990720" y="1600200"/>
            <a:chExt cx="3657600" cy="2362320"/>
          </a:xfrm>
        </p:grpSpPr>
        <p:sp>
          <p:nvSpPr>
            <p:cNvPr id="112" name="Line 5"/>
            <p:cNvSpPr/>
            <p:nvPr/>
          </p:nvSpPr>
          <p:spPr>
            <a:xfrm>
              <a:off x="2590920" y="1600200"/>
              <a:ext cx="0" cy="236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6"/>
            <p:cNvSpPr/>
            <p:nvPr/>
          </p:nvSpPr>
          <p:spPr>
            <a:xfrm>
              <a:off x="990720" y="39625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6"/>
          <p:cNvGrpSpPr/>
          <p:nvPr/>
        </p:nvGrpSpPr>
        <p:grpSpPr>
          <a:xfrm>
            <a:off x="838080" y="4191120"/>
            <a:ext cx="3429000" cy="2209680"/>
            <a:chOff x="838080" y="4191120"/>
            <a:chExt cx="3429000" cy="2209680"/>
          </a:xfrm>
        </p:grpSpPr>
        <p:sp>
          <p:nvSpPr>
            <p:cNvPr id="115" name="AutoShape 8"/>
            <p:cNvSpPr/>
            <p:nvPr/>
          </p:nvSpPr>
          <p:spPr>
            <a:xfrm>
              <a:off x="838080" y="4267080"/>
              <a:ext cx="1143000" cy="121932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utoShape 9"/>
            <p:cNvSpPr/>
            <p:nvPr/>
          </p:nvSpPr>
          <p:spPr>
            <a:xfrm>
              <a:off x="1523880" y="5562720"/>
              <a:ext cx="2133720" cy="838080"/>
            </a:xfrm>
            <a:prstGeom prst="cube">
              <a:avLst>
                <a:gd name="adj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AutoShape 10"/>
            <p:cNvSpPr/>
            <p:nvPr/>
          </p:nvSpPr>
          <p:spPr>
            <a:xfrm>
              <a:off x="2666880" y="4191120"/>
              <a:ext cx="1600200" cy="1218960"/>
            </a:xfrm>
            <a:prstGeom prst="triangle">
              <a:avLst>
                <a:gd name="adj" fmla="val 54894"/>
              </a:avLst>
            </a:prstGeom>
            <a:solidFill>
              <a:srgbClr val="99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Group 15"/>
          <p:cNvGrpSpPr/>
          <p:nvPr/>
        </p:nvGrpSpPr>
        <p:grpSpPr>
          <a:xfrm>
            <a:off x="2590920" y="3352680"/>
            <a:ext cx="609480" cy="609840"/>
            <a:chOff x="2590920" y="3352680"/>
            <a:chExt cx="609480" cy="609840"/>
          </a:xfrm>
        </p:grpSpPr>
        <p:sp>
          <p:nvSpPr>
            <p:cNvPr id="119" name="Line 13"/>
            <p:cNvSpPr/>
            <p:nvPr/>
          </p:nvSpPr>
          <p:spPr>
            <a:xfrm>
              <a:off x="2590920" y="33526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4"/>
            <p:cNvSpPr/>
            <p:nvPr/>
          </p:nvSpPr>
          <p:spPr>
            <a:xfrm>
              <a:off x="3200400" y="3352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1T13:49:42Z</dcterms:created>
  <dc:creator> </dc:creator>
  <dc:description/>
  <dc:language>en-US</dc:language>
  <cp:lastModifiedBy>aroy</cp:lastModifiedBy>
  <dcterms:modified xsi:type="dcterms:W3CDTF">2011-03-16T10:55:10Z</dcterms:modified>
  <cp:revision>20</cp:revision>
  <dc:subject/>
  <dc:title>Two-dimensional Shapes (2D)</dc:title>
</cp:coreProperties>
</file>